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077-4DC6-430C-BF9A-457FE159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275-07D7-4BFC-8A55-26CD6BE3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212-A77C-4A36-923B-BF861DF8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A51-F919-4FD4-956A-56200DFA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670FD-4138-408E-844A-92E579EE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1C3FB-6EFF-4024-8883-65C974C3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FE110-1C11-480F-9355-0EDBB915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B899E-BBA8-4392-9299-541F4E22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B4AA4-ED1D-4C76-9C32-18FA8A6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12F90-A81D-4473-A02A-FEABD93E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A48F6-1013-469F-ADD3-0902FC4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C45-7A5C-4013-874D-4A0BAD4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051CE-A5C1-407B-A08E-FEC0A1CE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C394F-4AEB-405F-8B17-BD8CDF3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D0B76-272D-41A6-AA72-2BEEE90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2AA7F-3BE4-44E8-AB5C-2CFC9C87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AA5CB-BC22-4144-AEC2-1A5BC084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9F3-9561-4467-B4C7-77E5830D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3BA-AD63-4216-9035-417E4E4F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7AC-8619-4B48-8062-68CC6381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2B4-21E7-4459-980D-1B76A21F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BF5-FFBC-4EFE-AAC2-4A8135E4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C8B-CBE9-40CA-8E0F-D049DDD1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507-FD5B-46E3-8226-6866C6C1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1C24-6926-4123-B721-C5F69CC402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DBB4-B8C1-4AE5-9A5D-2257A76B1D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95480" y="1447920"/>
            <a:ext cx="3200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81080" y="3886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VALUARE INIŢIAL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PUNCTELE CARDINAL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00" y="76140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. Stabiliți punctele cardinale pe harta de mai j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e3e3ff"/>
                </a:solidFill>
                <a:latin typeface="Arial"/>
              </a:rPr>
              <a:t>ȘEZARE GEOGRAFIC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abiliți emisferele în care se situează continentul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recizați principalele linii geografice care traversează continentul asia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VECINII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abiliți pe harta de mai jos, vecini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tinentului asi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7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RELIEFUL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iviți harta de mai jos și stabiliți principalele unități de relief din Asia în funcție de culorile existente pe hart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STATELE DIN AS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Urmăriți harta de mai jos și precizaţ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va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ate de pe continentul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19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POPULA</a:t>
            </a: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Ț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electează imagini ce reprezintă populația asiatic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904760" cy="1714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53080" y="3733920"/>
            <a:ext cx="1952640" cy="1630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886200" y="1371600"/>
            <a:ext cx="1828800" cy="1736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505320" y="350532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85800" y="1371600"/>
            <a:ext cx="24382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TURISMUL DIN AS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Bifați imaginile care ilustrează obiective turistice din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590920" cy="1773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6477120" y="990720"/>
            <a:ext cx="2492280" cy="1676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Indonezia"/>
          <p:cNvPicPr/>
          <p:nvPr/>
        </p:nvPicPr>
        <p:blipFill>
          <a:blip r:embed="rId3"/>
          <a:stretch/>
        </p:blipFill>
        <p:spPr>
          <a:xfrm>
            <a:off x="380880" y="2895480"/>
            <a:ext cx="2590920" cy="1731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Orasului Interzis,Beijing - China"/>
          <p:cNvPicPr/>
          <p:nvPr/>
        </p:nvPicPr>
        <p:blipFill>
          <a:blip r:embed="rId4"/>
          <a:stretch/>
        </p:blipFill>
        <p:spPr>
          <a:xfrm>
            <a:off x="380880" y="48006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Kyoto"/>
          <p:cNvPicPr/>
          <p:nvPr/>
        </p:nvPicPr>
        <p:blipFill>
          <a:blip r:embed="rId5"/>
          <a:stretch/>
        </p:blipFill>
        <p:spPr>
          <a:xfrm>
            <a:off x="6477120" y="2819520"/>
            <a:ext cx="2473200" cy="1752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2397240" cy="1716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3505320" y="9907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3505320" y="2819520"/>
            <a:ext cx="2438280" cy="1676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3962520" y="457200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3e3ff"/>
                </a:solidFill>
                <a:latin typeface="Arial"/>
              </a:rPr>
              <a:t>BRAVO 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101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45:31Z</dcterms:created>
  <dc:creator>Scoala 2</dc:creator>
  <dc:description/>
  <dc:language>en-US</dc:language>
  <cp:lastModifiedBy>curs</cp:lastModifiedBy>
  <dcterms:modified xsi:type="dcterms:W3CDTF">2010-12-03T13:50:06Z</dcterms:modified>
  <cp:revision>9</cp:revision>
  <dc:subject/>
  <dc:title>Slide 1</dc:title>
</cp:coreProperties>
</file>